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C8A-585E-4346-AFE7-48D12763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E98-392B-4FC5-96EC-EE4CC6D9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AB5-A376-4500-BFD3-CA4F37FE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6FD-6753-4D16-8AEE-C037180A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00F-1935-4C5A-AF9A-B82E7013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514-B967-453D-985E-7EA22A1D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35C-0D6F-4B66-BC3B-76758B14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804-7224-4439-A7ED-7DF52155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650-6DF6-4149-8DA6-8CB2A430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806-0A82-4B8C-9629-D04F7624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F00-64C1-4384-9FD7-B2542681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398-5C04-4721-AFD5-F04710F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3B14-17B0-41C8-938E-E78D42738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3429000" y="-838080"/>
            <a:ext cx="0" cy="998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80880" y="609480"/>
            <a:ext cx="26672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SECO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80880" y="236232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04920" y="426708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80880" y="60958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457200" y="7848720"/>
            <a:ext cx="25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MILY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t0.gstatic.com/images?q=tbn:ANd9GcRgbkiPHZZ18SRSAFXONasYTzu9isS1m58LociN3PlV5FoprxU&amp;t=1&amp;usg=__wKKhWIK9TSq6p9wMH1smYTMpplY="/>
          <p:cNvPicPr/>
          <p:nvPr/>
        </p:nvPicPr>
        <p:blipFill>
          <a:blip r:embed="rId1"/>
          <a:stretch/>
        </p:blipFill>
        <p:spPr>
          <a:xfrm>
            <a:off x="3962520" y="36576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t0.gstatic.com/images?q=tbn:ANd9GcQ1vgh3igWifB1ndVG0eMAl-19P6SkMBawCPy4cZYrTlKqHXL0&amp;t=1&amp;usg=__iat1S4zqdK0VxwrhBODWX8x1dAs="/>
          <p:cNvPicPr/>
          <p:nvPr/>
        </p:nvPicPr>
        <p:blipFill>
          <a:blip r:embed="rId2"/>
          <a:stretch/>
        </p:blipFill>
        <p:spPr>
          <a:xfrm>
            <a:off x="3773520" y="0"/>
            <a:ext cx="271296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0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2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6"/>
          <p:cNvSpPr/>
          <p:nvPr/>
        </p:nvSpPr>
        <p:spPr>
          <a:xfrm>
            <a:off x="168120" y="-647640"/>
            <a:ext cx="24768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http://t3.gstatic.com/images?q=tbn:ANd9GcQZh3p9Km-MTplBFj9wtwn7IgLcStutczRzzpgg5uAwMuDzKQQ&amp;t=1&amp;usg=__QoPwcJ3Z_C0KYCcrSka8dR9CFCg="/>
          <p:cNvPicPr/>
          <p:nvPr/>
        </p:nvPicPr>
        <p:blipFill>
          <a:blip r:embed="rId3"/>
          <a:stretch/>
        </p:blipFill>
        <p:spPr>
          <a:xfrm>
            <a:off x="4495680" y="5486400"/>
            <a:ext cx="1371600" cy="18302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0"/>
          <p:cNvSpPr/>
          <p:nvPr/>
        </p:nvSpPr>
        <p:spPr>
          <a:xfrm>
            <a:off x="168120" y="-754200"/>
            <a:ext cx="1571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4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6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8"/>
          <p:cNvSpPr/>
          <p:nvPr/>
        </p:nvSpPr>
        <p:spPr>
          <a:xfrm>
            <a:off x="168120" y="-700200"/>
            <a:ext cx="1143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0"/>
          <p:cNvSpPr/>
          <p:nvPr/>
        </p:nvSpPr>
        <p:spPr>
          <a:xfrm>
            <a:off x="168120" y="-700200"/>
            <a:ext cx="1143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2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4" descr="http://images.rods.com/RS/SR/Product/sc602_F.jpg"/>
          <p:cNvPicPr/>
          <p:nvPr/>
        </p:nvPicPr>
        <p:blipFill>
          <a:blip r:embed="rId4"/>
          <a:stretch/>
        </p:blipFill>
        <p:spPr>
          <a:xfrm>
            <a:off x="4191120" y="7315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6" descr="http://t1.gstatic.com/images?q=tbn:ANd9GcTxMNuMwwTA2D3-kyG7hS7HUosDUhBPr-UL4gu5DRItVDoYaII&amp;t=1&amp;usg=__FJpa9C26tFmEMUuiQtuNg5HMO2Q="/>
          <p:cNvPicPr/>
          <p:nvPr/>
        </p:nvPicPr>
        <p:blipFill>
          <a:blip r:embed="rId5"/>
          <a:stretch/>
        </p:blipFill>
        <p:spPr>
          <a:xfrm>
            <a:off x="3733920" y="1828800"/>
            <a:ext cx="2747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"/>
          <p:cNvSpPr/>
          <p:nvPr/>
        </p:nvSpPr>
        <p:spPr>
          <a:xfrm>
            <a:off x="3429000" y="-838080"/>
            <a:ext cx="0" cy="998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80880" y="6094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2280" y="2363760"/>
            <a:ext cx="31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04920" y="426708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26960" y="60958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57200" y="7848720"/>
            <a:ext cx="25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AL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6" descr="http://t2.gstatic.com/images?q=tbn:ANd9GcQBvGb3rQZrctQuKe8HEicQpNJQg7N3yNpfAC1685qmfLSNMKI&amp;t=1&amp;usg=__FQC8km7_qSrXUDitJ3KWhx8Gkew="/>
          <p:cNvPicPr/>
          <p:nvPr/>
        </p:nvPicPr>
        <p:blipFill>
          <a:blip r:embed="rId1"/>
          <a:stretch/>
        </p:blipFill>
        <p:spPr>
          <a:xfrm>
            <a:off x="4191120" y="5486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http://t0.gstatic.com/images?q=tbn:ANd9GcTYY7fw2OQ-t7hIoaUHfOitFpjYFuo_ipp2sdeK54GZO6Qbu4E&amp;t=1&amp;usg=__0xcS1zay-IC6_4e2LvflXmowBmk="/>
          <p:cNvPicPr/>
          <p:nvPr/>
        </p:nvPicPr>
        <p:blipFill>
          <a:blip r:embed="rId2"/>
          <a:stretch/>
        </p:blipFill>
        <p:spPr>
          <a:xfrm>
            <a:off x="3809880" y="7296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http://t2.gstatic.com/images?q=tbn:ANd9GcQkA_25PN1wk2NCeQ-p_AcK2HEosjYchmrPFOJbuefTLyDmWYk&amp;t=1&amp;usg=__dNcivBPgFRLWRsEcYxtHtPvVVd4="/>
          <p:cNvPicPr/>
          <p:nvPr/>
        </p:nvPicPr>
        <p:blipFill>
          <a:blip r:embed="rId3"/>
          <a:stretch/>
        </p:blipFill>
        <p:spPr>
          <a:xfrm>
            <a:off x="4038480" y="1828800"/>
            <a:ext cx="2057400" cy="1816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http://t0.gstatic.com/images?q=tbn:ANd9GcRVfzoZwzjIQqIDtAYBbvODcavcFcWvQYMbiB-x-z6SZ4gMDrk&amp;t=1&amp;usg=__nae7hIvLH-R4T3D-HMBsc-xlBnY="/>
          <p:cNvPicPr/>
          <p:nvPr/>
        </p:nvPicPr>
        <p:blipFill>
          <a:blip r:embed="rId4"/>
          <a:stretch/>
        </p:blipFill>
        <p:spPr>
          <a:xfrm>
            <a:off x="3886200" y="0"/>
            <a:ext cx="237960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http://t0.gstatic.com/images?q=tbn:ANd9GcRmWMQ2GZhbuY8Kv3gMnH8cRj3UkVVuDwXO-na__TuEFBgIuVA&amp;t=1&amp;usg=__awMvIt2vb-WlqlGMGhofCh1jCpw="/>
          <p:cNvPicPr/>
          <p:nvPr/>
        </p:nvPicPr>
        <p:blipFill>
          <a:blip r:embed="rId5"/>
          <a:stretch/>
        </p:blipFill>
        <p:spPr>
          <a:xfrm>
            <a:off x="3809880" y="3657600"/>
            <a:ext cx="2457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9:14:23Z</dcterms:created>
  <dc:creator>Hutto ISD</dc:creator>
  <dc:description/>
  <dc:language>en-US</dc:language>
  <cp:lastModifiedBy>lottun</cp:lastModifiedBy>
  <cp:lastPrinted>2010-09-16T02:03:23Z</cp:lastPrinted>
  <dcterms:modified xsi:type="dcterms:W3CDTF">2010-09-28T19:46:42Z</dcterms:modified>
  <cp:revision>29</cp:revision>
  <dc:subject/>
  <dc:title>No Slide Title</dc:title>
</cp:coreProperties>
</file>